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2.png" ContentType="image/png"/>
  <Override PartName="/ppt/media/image21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9.gif" ContentType="image/gif"/>
  <Override PartName="/ppt/media/image14.jpeg" ContentType="image/jpeg"/>
  <Override PartName="/ppt/media/image4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3.jpeg" ContentType="image/jpeg"/>
  <Override PartName="/ppt/media/image13.jpeg" ContentType="image/jpeg"/>
  <Override PartName="/ppt/media/image40.jpeg" ContentType="image/jpeg"/>
  <Override PartName="/ppt/media/image38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37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png" ContentType="image/png"/>
  <Override PartName="/ppt/media/image32.jpeg" ContentType="image/jpeg"/>
  <Override PartName="/ppt/media/image42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34.jpeg" ContentType="image/jpeg"/>
  <Override PartName="/ppt/media/image7.png" ContentType="image/png"/>
  <Override PartName="/ppt/media/image10.png" ContentType="image/png"/>
  <Override PartName="/ppt/media/image35.jpeg" ContentType="image/jpeg"/>
  <Override PartName="/ppt/media/image1.jpeg" ContentType="image/jpe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B0BFB-A81C-42B2-9A2F-331802ED0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A54D1-8432-4727-BBB8-511CC8BD4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C5C9C-41EF-4563-B155-4CF0641B4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7817-3E48-40BF-BABC-DEB1E68B1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BAA1-26BC-449D-B7F7-893947F50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A45D-BC50-42AE-A871-19FDE19A5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C626-BD1F-4AB0-9D06-5FDAB84EA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4CB62-4BCC-4127-98FE-52FC5DDEE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83D31-F0CA-4943-AE7B-E210EE7AC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DC6ED-7D5A-4BA5-90D6-BF6A0B4CD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A521C-93B1-411E-BDD2-151D38DC1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F1739-7E32-4898-9551-33CF059F4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B14C7-3AB4-48A9-8D19-3BE503664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DA5F3-E0E0-42CA-9DCA-33701455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C332-BAAC-4AFC-88AC-D2F5CCD0F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036C1-A1C5-4C7C-9253-E53966AE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98FF8-1E56-4FBA-B2C5-C302D4FD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FD5B2-53CD-4F52-BCEE-1C275032B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E6F73-968F-4841-88F0-FFE7CE5EE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A04F4-A764-4B75-9FDD-865E56D8E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BD71-F816-40FE-93CB-55396FD95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B0DD-6B60-4908-B5FC-7E2C4B4DF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8BAB-E758-4838-9ECF-A56F8B11D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7595-4617-45C9-A47B-BDA504C23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AF59-B80A-4096-A86D-8E8AB1C7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B999-702C-47F9-9996-2694700F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AB30-C96C-40A1-B499-4D715AD3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94596-C8D2-4BD0-BA8B-D78D4A3F7E0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2D840-D254-479D-9FFE-5959DBB1276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edited lung"/>
          <p:cNvPicPr/>
          <p:nvPr/>
        </p:nvPicPr>
        <p:blipFill>
          <a:blip r:embed="rId1"/>
          <a:stretch/>
        </p:blipFill>
        <p:spPr>
          <a:xfrm>
            <a:off x="0" y="0"/>
            <a:ext cx="9144000" cy="6954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15" name="▶ Anatomical Tutorial During Trans-Nasal Endoscopy.mp4" descr=""/>
          <p:cNvPicPr/>
          <p:nvPr/>
        </p:nvPicPr>
        <p:blipFill>
          <a:blip r:embed="rId1"/>
          <a:stretch/>
        </p:blipFill>
        <p:spPr>
          <a:xfrm>
            <a:off x="0" y="0"/>
            <a:ext cx="9171000" cy="6878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75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228600" y="0"/>
            <a:ext cx="853452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onch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the two large passageways that lead from the trachea to your lungs (one for each lu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the bronchi are further subdivided into bronchi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eventually, the further subdivisions lead to tiny ai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cs call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veo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alveoli are in clusters, like gra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capillaries surrounding each alveolus is whe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change of gases with the blood occ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phrag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muscle that causes you to bre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hiccups are involuntary contractions of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phrag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7696080" y="64771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3.10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0" y="6094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0" y="1066680"/>
            <a:ext cx="9144000" cy="763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-95760"/>
            <a:ext cx="876312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Figure 23.10  The Bronchi and Lobules of the Lung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21" name="Picture 6" descr=""/>
          <p:cNvPicPr/>
          <p:nvPr/>
        </p:nvPicPr>
        <p:blipFill>
          <a:blip r:embed="rId1"/>
          <a:stretch/>
        </p:blipFill>
        <p:spPr>
          <a:xfrm>
            <a:off x="1676520" y="1179360"/>
            <a:ext cx="5486400" cy="5375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7696080" y="64771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3.10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0" y="6094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0" y="1066680"/>
            <a:ext cx="9144000" cy="763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-95760"/>
            <a:ext cx="876312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Figure 23.10  The Bronchi and Lobules of the Lung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26" name="Picture 6" descr=""/>
          <p:cNvPicPr/>
          <p:nvPr/>
        </p:nvPicPr>
        <p:blipFill>
          <a:blip r:embed="rId1"/>
          <a:stretch/>
        </p:blipFill>
        <p:spPr>
          <a:xfrm>
            <a:off x="1295280" y="1166760"/>
            <a:ext cx="6858000" cy="5356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639960" cy="4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38145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iration = gas exchange --  Occurs at the levels of the lungs and tissues (external respiration) and cell (internal or cellular respiration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rnal respiratio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Pulmonary ventilation: movement of air in and out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the lung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s exchange in the alveol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s transport in the bloo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s exchanges between blood and tissu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figure_16_01_l"/>
          <p:cNvPicPr/>
          <p:nvPr/>
        </p:nvPicPr>
        <p:blipFill>
          <a:blip r:embed="rId1"/>
          <a:stretch/>
        </p:blipFill>
        <p:spPr>
          <a:xfrm>
            <a:off x="4506840" y="0"/>
            <a:ext cx="4637160" cy="6832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7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Respiratory airway: Alveoli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466992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veolar wall is formed by simple squamous epithelium = type I cells (SSE)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as exchan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iratory membrane: membrane separating alveolus from blood capillar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rge surface area from the numerous alveoli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etter gas exchan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sence of elastic fibers between alveo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3" descr="figure_16_05_ab_l"/>
          <p:cNvPicPr/>
          <p:nvPr/>
        </p:nvPicPr>
        <p:blipFill>
          <a:blip r:embed="rId1"/>
          <a:stretch/>
        </p:blipFill>
        <p:spPr>
          <a:xfrm>
            <a:off x="457200" y="941400"/>
            <a:ext cx="8305920" cy="3537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963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Airway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34" name="Picture 4" descr="figure_16_03_l"/>
          <p:cNvPicPr/>
          <p:nvPr/>
        </p:nvPicPr>
        <p:blipFill>
          <a:blip r:embed="rId1"/>
          <a:stretch/>
        </p:blipFill>
        <p:spPr>
          <a:xfrm>
            <a:off x="3541680" y="990720"/>
            <a:ext cx="5602320" cy="5715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312408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per airways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nose to pharyn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er airway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Conducting airway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rynx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ronchio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Respiratory airway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veo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Blood supply to the lungs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71240" y="761760"/>
            <a:ext cx="3814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figure_16_06_l"/>
          <p:cNvPicPr/>
          <p:nvPr/>
        </p:nvPicPr>
        <p:blipFill>
          <a:blip r:embed="rId1"/>
          <a:stretch/>
        </p:blipFill>
        <p:spPr>
          <a:xfrm>
            <a:off x="1066680" y="762120"/>
            <a:ext cx="7543800" cy="36147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figure_16_05d_l"/>
          <p:cNvPicPr/>
          <p:nvPr/>
        </p:nvPicPr>
        <p:blipFill>
          <a:blip r:embed="rId2"/>
          <a:stretch/>
        </p:blipFill>
        <p:spPr>
          <a:xfrm>
            <a:off x="5486400" y="4287960"/>
            <a:ext cx="2813040" cy="2570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7696080" y="64771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3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0" y="6094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0" y="1066680"/>
            <a:ext cx="9144000" cy="763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-399960"/>
            <a:ext cx="8763120" cy="192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Figure 23.2  The Respiratory Epithelium of the Nasal Cavity and Conducting System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6858000" cy="5407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Human Respiratory System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91" name="Picture 3" descr="respiratorydetail"/>
          <p:cNvPicPr/>
          <p:nvPr/>
        </p:nvPicPr>
        <p:blipFill>
          <a:blip r:embed="rId1"/>
          <a:stretch/>
        </p:blipFill>
        <p:spPr>
          <a:xfrm>
            <a:off x="2209680" y="1600200"/>
            <a:ext cx="4857840" cy="4915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</a:t>
            </a:r>
            <a:r>
              <a:rPr b="0" lang="en-US" sz="4000" spc="-1" strike="noStrike">
                <a:solidFill>
                  <a:srgbClr val="00cc99"/>
                </a:solidFill>
                <a:latin typeface="Impact"/>
              </a:rPr>
              <a:t>Respiratory Defense System</a:t>
            </a: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ists of a series of filtration mechanis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moves particles and pathoge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omponents of the </a:t>
            </a:r>
            <a:r>
              <a:rPr b="0" lang="en-US" sz="4000" spc="-1" strike="noStrike">
                <a:solidFill>
                  <a:srgbClr val="00cc99"/>
                </a:solidFill>
                <a:latin typeface="Impact"/>
              </a:rPr>
              <a:t>Respiratory Defense System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-360" y="205704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Goblet cell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mucous gland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e mucus that bathes exposed surfa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Cili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eep debris trapped in mucus toward the pharynx (</a:t>
            </a: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mucus escalat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cilia"/>
          <p:cNvPicPr/>
          <p:nvPr/>
        </p:nvPicPr>
        <p:blipFill>
          <a:blip r:embed="rId1"/>
          <a:stretch/>
        </p:blipFill>
        <p:spPr>
          <a:xfrm>
            <a:off x="4952880" y="2057400"/>
            <a:ext cx="3075120" cy="45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omponents of the </a:t>
            </a:r>
            <a:r>
              <a:rPr b="0" lang="en-US" sz="4000" spc="-1" strike="noStrike">
                <a:solidFill>
                  <a:srgbClr val="00cc99"/>
                </a:solidFill>
                <a:latin typeface="Impact"/>
              </a:rPr>
              <a:t>Respiratory Defense System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Filtr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n nasal cavity removes large partic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Alveolar macrophag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engulf small particles that reach lung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Nose 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3760" y="76176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ir enters the respiratory system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ough nostrils or </a:t>
            </a: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external na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 </a:t>
            </a: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nasal vestibu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Nasal hair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n </a:t>
            </a: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nasal vestibu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the first particle filtration sys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" descr="nose"/>
          <p:cNvPicPr/>
          <p:nvPr/>
        </p:nvPicPr>
        <p:blipFill>
          <a:blip r:embed="rId1"/>
          <a:stretch/>
        </p:blipFill>
        <p:spPr>
          <a:xfrm>
            <a:off x="0" y="990720"/>
            <a:ext cx="5181480" cy="41148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BobMartin"/>
          <p:cNvPicPr/>
          <p:nvPr/>
        </p:nvPicPr>
        <p:blipFill>
          <a:blip r:embed="rId2"/>
          <a:stretch/>
        </p:blipFill>
        <p:spPr>
          <a:xfrm>
            <a:off x="1905120" y="5800680"/>
            <a:ext cx="838080" cy="1057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Nasal Cavity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3760" y="76176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nasal septu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vides </a:t>
            </a: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nasal cav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to left and rig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cous secretions from paranasal sinus and tear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ean and moisten the nasal cav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erior portion of nasal cavity is the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olfactory reg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s sense of sme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nasal cavity"/>
          <p:cNvPicPr/>
          <p:nvPr/>
        </p:nvPicPr>
        <p:blipFill>
          <a:blip r:embed="rId1"/>
          <a:stretch/>
        </p:blipFill>
        <p:spPr>
          <a:xfrm>
            <a:off x="0" y="1295280"/>
            <a:ext cx="4952880" cy="4491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Air Flow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vestibul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internal nar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rough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superio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middle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inferior concha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rcRect l="8362" t="14579" r="2779" b="12455"/>
          <a:stretch/>
        </p:blipFill>
        <p:spPr>
          <a:xfrm>
            <a:off x="3657600" y="1143000"/>
            <a:ext cx="5164200" cy="5486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-22896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Palate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-360" y="761760"/>
            <a:ext cx="3886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Hard palat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s floor of nasal cav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parates nasal and oral cav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Soft palat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ends posterior to hard pal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vides superior nasopharynx from lower pharyn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rcRect l="8362" t="14579" r="2779" b="12455"/>
          <a:stretch/>
        </p:blipFill>
        <p:spPr>
          <a:xfrm>
            <a:off x="4038480" y="1143000"/>
            <a:ext cx="4518000" cy="4800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-22896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The </a:t>
            </a:r>
            <a:r>
              <a:rPr b="0" lang="en-US" sz="3600" spc="-1" strike="noStrike">
                <a:solidFill>
                  <a:srgbClr val="00cc99"/>
                </a:solidFill>
                <a:latin typeface="Impact"/>
              </a:rPr>
              <a:t>Nasal Mucosa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373392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m and humidify inhaled air for arrival at lower respiratory organ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eathing through mouth bypasses this important ste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rcRect l="8362" t="14579" r="2779" b="12455"/>
          <a:stretch/>
        </p:blipFill>
        <p:spPr>
          <a:xfrm>
            <a:off x="3613320" y="609480"/>
            <a:ext cx="5378400" cy="5715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Pharynx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38098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chamber shared by digestive and respiratory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ds from internal nares to entrances to larynx and esophag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normal-lung-anatomy-picture-c"/>
          <p:cNvPicPr/>
          <p:nvPr/>
        </p:nvPicPr>
        <p:blipFill>
          <a:blip r:embed="rId1"/>
          <a:stretch/>
        </p:blipFill>
        <p:spPr>
          <a:xfrm>
            <a:off x="3809880" y="533520"/>
            <a:ext cx="5334120" cy="4267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Divisions of the Pharynx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Nasopharyn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Oropharyn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Laryngopharyn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How it works.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2514600" y="1219320"/>
            <a:ext cx="3902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simple task of the respiratory system is to supply the blood cells with oxy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1-2-6-4-0-0-0-0-0-0-0"/>
          <p:cNvPicPr/>
          <p:nvPr/>
        </p:nvPicPr>
        <p:blipFill>
          <a:blip r:embed="rId1"/>
          <a:stretch/>
        </p:blipFill>
        <p:spPr>
          <a:xfrm>
            <a:off x="3657600" y="2362320"/>
            <a:ext cx="4952880" cy="3962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The </a:t>
            </a:r>
            <a:r>
              <a:rPr b="0" lang="en-US" sz="3600" spc="-1" strike="noStrike">
                <a:solidFill>
                  <a:srgbClr val="00cc99"/>
                </a:solidFill>
                <a:latin typeface="Impact"/>
              </a:rPr>
              <a:t>Nasopharynx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erior portion of the pharyn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ains pharyngeal tonsils and openings to left and right auditory tub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Illustration showing parts of the pharynx, including nasopharynx, oropharynx and laryngopharynx."/>
          <p:cNvPicPr/>
          <p:nvPr/>
        </p:nvPicPr>
        <p:blipFill>
          <a:blip r:embed="rId1"/>
          <a:stretch/>
        </p:blipFill>
        <p:spPr>
          <a:xfrm>
            <a:off x="5334120" y="228600"/>
            <a:ext cx="3809880" cy="3838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</a:t>
            </a:r>
            <a:r>
              <a:rPr b="0" lang="en-US" sz="4000" spc="-1" strike="noStrike">
                <a:solidFill>
                  <a:srgbClr val="00cc99"/>
                </a:solidFill>
                <a:latin typeface="Impact"/>
              </a:rPr>
              <a:t>Oropharynx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5960" y="114300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ddle portion of the pharyn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unicates with oral cav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6" descr="Illustration showing parts of the pharynx, including nasopharynx, oropharynx and laryngopharynx."/>
          <p:cNvPicPr/>
          <p:nvPr/>
        </p:nvPicPr>
        <p:blipFill>
          <a:blip r:embed="rId1"/>
          <a:stretch/>
        </p:blipFill>
        <p:spPr>
          <a:xfrm>
            <a:off x="5334120" y="0"/>
            <a:ext cx="3809880" cy="3838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7" descr="TonsilsAdenoid-Mouth"/>
          <p:cNvPicPr/>
          <p:nvPr/>
        </p:nvPicPr>
        <p:blipFill>
          <a:blip r:embed="rId2"/>
          <a:stretch/>
        </p:blipFill>
        <p:spPr>
          <a:xfrm>
            <a:off x="609480" y="3505320"/>
            <a:ext cx="4191120" cy="3017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81" name="Content Placeholder 3" descr=""/>
          <p:cNvPicPr/>
          <p:nvPr/>
        </p:nvPicPr>
        <p:blipFill>
          <a:blip r:embed="rId1"/>
          <a:stretch/>
        </p:blipFill>
        <p:spPr>
          <a:xfrm>
            <a:off x="2209680" y="-444600"/>
            <a:ext cx="6172200" cy="8229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83" name="Content Placeholder 3" descr="2012-01-30_09.12.45.jpg"/>
          <p:cNvPicPr/>
          <p:nvPr/>
        </p:nvPicPr>
        <p:blipFill>
          <a:blip r:embed="rId1"/>
          <a:stretch/>
        </p:blipFill>
        <p:spPr>
          <a:xfrm>
            <a:off x="0" y="0"/>
            <a:ext cx="5257800" cy="7010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The </a:t>
            </a:r>
            <a:r>
              <a:rPr b="0" lang="en-US" sz="3600" spc="-1" strike="noStrike">
                <a:solidFill>
                  <a:srgbClr val="00cc99"/>
                </a:solidFill>
                <a:latin typeface="Impact"/>
              </a:rPr>
              <a:t>Laryngopharynx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erior portion of the pharyn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ds from hyoid bone to entrance to larynx and esophagu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5" descr="Illustration showing parts of the pharynx, including nasopharynx, oropharynx and laryngopharynx."/>
          <p:cNvPicPr/>
          <p:nvPr/>
        </p:nvPicPr>
        <p:blipFill>
          <a:blip r:embed="rId1"/>
          <a:stretch/>
        </p:blipFill>
        <p:spPr>
          <a:xfrm>
            <a:off x="4114800" y="1371600"/>
            <a:ext cx="4462560" cy="4495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Anatomy of the Larynx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8240760" y="658332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Figure 23–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rcRect l="7087" t="19471" r="7068" b="11110"/>
          <a:stretch/>
        </p:blipFill>
        <p:spPr>
          <a:xfrm>
            <a:off x="0" y="76212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5960" y="-228960"/>
            <a:ext cx="6019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artilages of the Larynx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5960" y="990360"/>
            <a:ext cx="4343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large, unpaired cartilages form the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laryn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thyroid cartilag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ricoid cartila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epiglott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rcRect l="13987" t="39307" r="54588" b="11110"/>
          <a:stretch/>
        </p:blipFill>
        <p:spPr>
          <a:xfrm>
            <a:off x="4495680" y="838080"/>
            <a:ext cx="4373640" cy="5334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</a:t>
            </a:r>
            <a:r>
              <a:rPr b="0" lang="en-US" sz="4000" spc="-1" strike="noStrike">
                <a:solidFill>
                  <a:srgbClr val="00cc99"/>
                </a:solidFill>
                <a:latin typeface="Impact"/>
              </a:rPr>
              <a:t>Thyroid Cartilage</a:t>
            </a: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48769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so called the Adam’s ap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a hyaline cartil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s anterior and lateral walls of laryn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gaments attach to hyoid bone, epiglottis, and laryngeal cartila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"/>
          <p:cNvPicPr/>
          <p:nvPr/>
        </p:nvPicPr>
        <p:blipFill>
          <a:blip r:embed="rId1"/>
          <a:srcRect l="13987" t="39307" r="54588" b="11110"/>
          <a:stretch/>
        </p:blipFill>
        <p:spPr>
          <a:xfrm>
            <a:off x="4800600" y="1219320"/>
            <a:ext cx="4186080" cy="5105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The </a:t>
            </a:r>
            <a:r>
              <a:rPr b="0" lang="en-US" sz="3600" spc="-1" strike="noStrike">
                <a:solidFill>
                  <a:srgbClr val="00cc99"/>
                </a:solidFill>
                <a:latin typeface="Impact"/>
              </a:rPr>
              <a:t>Cricoid Cartilage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3886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a hyaline cartil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 posterior portion of laryn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gaments attach to first tracheal cartil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rcRect l="13987" t="39307" r="54588" b="11110"/>
          <a:stretch/>
        </p:blipFill>
        <p:spPr>
          <a:xfrm>
            <a:off x="4191120" y="457200"/>
            <a:ext cx="4686120" cy="5715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</a:t>
            </a:r>
            <a:r>
              <a:rPr b="0" lang="en-US" sz="4000" spc="-1" strike="noStrike">
                <a:solidFill>
                  <a:srgbClr val="00cc99"/>
                </a:solidFill>
                <a:latin typeface="Impact"/>
              </a:rPr>
              <a:t>Epiglotti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sed of elastic cartil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gaments attach to thyroid cartilage and hyoid bo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rcRect l="13987" t="39307" r="54588" b="11110"/>
          <a:stretch/>
        </p:blipFill>
        <p:spPr>
          <a:xfrm>
            <a:off x="3886200" y="762120"/>
            <a:ext cx="4749840" cy="5790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When we breathe.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6400800" y="990720"/>
            <a:ext cx="2514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iration is achieved through the mouth, nose, trachea, lungs and diaphragm. Oxygen then enters through the mouth and n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YSZ_surface_sml"/>
          <p:cNvPicPr/>
          <p:nvPr/>
        </p:nvPicPr>
        <p:blipFill>
          <a:blip r:embed="rId1"/>
          <a:stretch/>
        </p:blipFill>
        <p:spPr>
          <a:xfrm>
            <a:off x="1371600" y="1219320"/>
            <a:ext cx="5029200" cy="37875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3505320" y="685800"/>
            <a:ext cx="181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xygen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artilage Function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vents entry of food and liquids into respiratory tract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uring swallowing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larynx is elevat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epiglottis folds back over glott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yroid and cricoid cartilages support and protec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glott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entrance to trachea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Glotti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7739280" y="644364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Figure 23–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rcRect l="4939" t="33354" r="4920" b="24992"/>
          <a:stretch/>
        </p:blipFill>
        <p:spPr>
          <a:xfrm>
            <a:off x="152280" y="1311120"/>
            <a:ext cx="8915400" cy="3184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Sound Production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ir passing through glotti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brates vocal fol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ces sound wav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0" y="2514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Sound Var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0" y="388620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nd is vari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nsion on vocal fo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luntary mus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ch is done at the lary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Anatomy of the Trachea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8240760" y="658332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Figure 23–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rcRect l="10709" t="15303" r="10685" b="8331"/>
          <a:stretch/>
        </p:blipFill>
        <p:spPr>
          <a:xfrm>
            <a:off x="533520" y="914400"/>
            <a:ext cx="7696080" cy="5778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Trachea 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3429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so called the windpip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ds from the cricoid cartilage into pulmonary bronch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re it branches into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righ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left pulmonary bronch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"/>
          <p:cNvPicPr/>
          <p:nvPr/>
        </p:nvPicPr>
        <p:blipFill>
          <a:blip r:embed="rId1"/>
          <a:srcRect l="10709" t="15303" r="10685" b="8331"/>
          <a:stretch/>
        </p:blipFill>
        <p:spPr>
          <a:xfrm>
            <a:off x="3429000" y="1143000"/>
            <a:ext cx="5562720" cy="4176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</a:t>
            </a:r>
            <a:r>
              <a:rPr b="0" lang="en-US" sz="4000" spc="-1" strike="noStrike">
                <a:solidFill>
                  <a:srgbClr val="00cc99"/>
                </a:solidFill>
                <a:latin typeface="Impact"/>
              </a:rPr>
              <a:t>Tracheal Cartilages</a:t>
            </a: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–20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tracheal cartilag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en and protect airwa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ontinuous where trachea contacts esophag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ds of each tracheal cartilage are connected by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elastic ligament and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trachealis muscl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Primary Bronchi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Righ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left primary bronch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parated by an internal ridge (the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carin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0" y="20574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</a:t>
            </a:r>
            <a:r>
              <a:rPr b="0" lang="en-US" sz="4000" spc="-1" strike="noStrike">
                <a:solidFill>
                  <a:srgbClr val="00cc99"/>
                </a:solidFill>
                <a:latin typeface="Impact"/>
              </a:rPr>
              <a:t>Right Primary Bronchus</a:t>
            </a: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0" y="3429000"/>
            <a:ext cx="8458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larger in diameter than the l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cends at a steeper 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W SEATS TODAY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all classes (except 2a, 4a, 2b, 3b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ST ON THE RESPIRATORY SYSTEM next FRIDA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Lung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3886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Lef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right lung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in left and right pleural cav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bas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erior portion of each lung rests on superior surface of diaphrag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"/>
          <p:cNvPicPr/>
          <p:nvPr/>
        </p:nvPicPr>
        <p:blipFill>
          <a:blip r:embed="rId1"/>
          <a:srcRect l="9751" t="9210" r="6941" b="7087"/>
          <a:stretch/>
        </p:blipFill>
        <p:spPr>
          <a:xfrm>
            <a:off x="4038480" y="304920"/>
            <a:ext cx="4572000" cy="5943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Right Lung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s 3 lobes: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erior, middle, and inferi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parated by horizontal and oblique fissu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1"/>
          <a:srcRect l="9751" t="9210" r="6941" b="7087"/>
          <a:stretch/>
        </p:blipFill>
        <p:spPr>
          <a:xfrm>
            <a:off x="4038480" y="304920"/>
            <a:ext cx="4572000" cy="5943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04920" y="3805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Organization of th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Respiratory System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respiratory system is divided into the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upper respiratory syste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above the larynx, and the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lower respiratory syste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from the larynx dow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Left Lung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3581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s 2 lobes: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erior and inferi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separated by an oblique fiss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rcRect l="9751" t="9210" r="6941" b="7087"/>
          <a:stretch/>
        </p:blipFill>
        <p:spPr>
          <a:xfrm>
            <a:off x="4038480" y="304920"/>
            <a:ext cx="4572000" cy="5943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Relationship between Lungs and Hear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7739280" y="644364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Figure 23–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/>
          <a:srcRect l="7087" t="23634" r="5994" b="16662"/>
          <a:stretch/>
        </p:blipFill>
        <p:spPr>
          <a:xfrm>
            <a:off x="228600" y="1295280"/>
            <a:ext cx="8763120" cy="4651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Lung Shape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267080" y="-1295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ight lung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 wider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 displaced upward by liv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762120" y="36576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ft lu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 long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 displaced leftward by the heart forming the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cardiac notc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A Primary Bronchu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anches to form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secondary bronch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lobar bronchi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5" descr=""/>
          <p:cNvPicPr/>
          <p:nvPr/>
        </p:nvPicPr>
        <p:blipFill>
          <a:blip r:embed="rId1"/>
          <a:srcRect l="8362" t="9210" r="5552" b="7087"/>
          <a:stretch/>
        </p:blipFill>
        <p:spPr>
          <a:xfrm>
            <a:off x="5334120" y="1154160"/>
            <a:ext cx="3809880" cy="4930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Secondary Bronchi 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43434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anch to form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tertiary bronch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also called the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segmental bronch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"/>
          <p:cNvPicPr/>
          <p:nvPr/>
        </p:nvPicPr>
        <p:blipFill>
          <a:blip r:embed="rId1"/>
          <a:srcRect l="8362" t="9210" r="5552" b="7087"/>
          <a:stretch/>
        </p:blipFill>
        <p:spPr>
          <a:xfrm>
            <a:off x="4238640" y="685800"/>
            <a:ext cx="4905360" cy="6172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99"/>
                </a:solidFill>
                <a:latin typeface="Impact"/>
              </a:rPr>
              <a:t>Bronchitis</a:t>
            </a: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lammation of bronchial wall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uses constriction and breathing difficul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4" descr=""/>
          <p:cNvPicPr/>
          <p:nvPr/>
        </p:nvPicPr>
        <p:blipFill>
          <a:blip r:embed="rId1"/>
          <a:srcRect l="8362" t="9210" r="5552" b="7087"/>
          <a:stretch/>
        </p:blipFill>
        <p:spPr>
          <a:xfrm>
            <a:off x="4238640" y="685800"/>
            <a:ext cx="4905360" cy="617220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733920" y="-360"/>
            <a:ext cx="396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Bronchiole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-360" y="456840"/>
            <a:ext cx="39625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small bronch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branches into multiple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bronchio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onchioles branch into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terminal bronchioles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tertiary bronchus forms about 6500 terminal bronchio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Alveolar Organization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3429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iratory bronchioles are connected to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alveol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long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alveolar du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Alveolar duc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nd at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alveolar sacs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on chambers connected to many individual alveoli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4" descr=""/>
          <p:cNvPicPr/>
          <p:nvPr/>
        </p:nvPicPr>
        <p:blipFill>
          <a:blip r:embed="rId1"/>
          <a:srcRect l="6972" t="16722" r="2779" b="14598"/>
          <a:stretch/>
        </p:blipFill>
        <p:spPr>
          <a:xfrm>
            <a:off x="3124080" y="609480"/>
            <a:ext cx="6019920" cy="5924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An Alveolu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2895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s an extensive network of capilla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surrounded by elastic fibers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4" descr=""/>
          <p:cNvPicPr/>
          <p:nvPr/>
        </p:nvPicPr>
        <p:blipFill>
          <a:blip r:embed="rId1"/>
          <a:srcRect l="6972" t="16722" r="2779" b="14598"/>
          <a:stretch/>
        </p:blipFill>
        <p:spPr>
          <a:xfrm>
            <a:off x="3124080" y="685800"/>
            <a:ext cx="6019920" cy="5924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Inflammation of Lobules 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so called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pneumoni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uses fluid to leak into alveol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romises function of respiratory membra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omponents of the Respiratory System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7739280" y="644364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Figure 23–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rcRect l="15303" t="23164" r="16662" b="21040"/>
          <a:stretch/>
        </p:blipFill>
        <p:spPr>
          <a:xfrm>
            <a:off x="1600200" y="990720"/>
            <a:ext cx="5529240" cy="5867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Mechanics of breathing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371240" y="761760"/>
            <a:ext cx="3814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yle’s law: The pressure of a gas in a closed container is inversely proportional to the volume of the container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r flow in the lungs is driven by the differences in pressure between the atmosphere and the alveol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.atm is constant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anges in P.alv drive ventil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4" descr="BOYLE"/>
          <p:cNvPicPr/>
          <p:nvPr/>
        </p:nvPicPr>
        <p:blipFill>
          <a:blip r:embed="rId1"/>
          <a:stretch/>
        </p:blipFill>
        <p:spPr>
          <a:xfrm>
            <a:off x="5446800" y="1424160"/>
            <a:ext cx="3579840" cy="4389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Gas Pressure and Volume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7735320" y="6443640"/>
            <a:ext cx="109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Figure 23–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4" descr=""/>
          <p:cNvPicPr/>
          <p:nvPr/>
        </p:nvPicPr>
        <p:blipFill>
          <a:blip r:embed="rId1"/>
          <a:srcRect l="28719" t="26857" r="28695" b="20799"/>
          <a:stretch/>
        </p:blipFill>
        <p:spPr>
          <a:xfrm>
            <a:off x="1523880" y="990720"/>
            <a:ext cx="6096240" cy="5790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99"/>
                </a:solidFill>
                <a:latin typeface="Impact"/>
              </a:rPr>
              <a:t>Atmospheric Pressure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6212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weight of air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s several important physiological effect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99"/>
                </a:solidFill>
                <a:latin typeface="Impact"/>
              </a:rPr>
              <a:t>Boyle’s Law</a:t>
            </a: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228600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es the relationship between gas pressure and volum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 volume decreases, pressure in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a contained g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ernal pressure forces molecules closer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vement of gas molecules exerts pressure on 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7735320" y="6443640"/>
            <a:ext cx="109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Figure 23–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Mechanisms of Pulmonary Ventilation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1"/>
          <a:srcRect l="15303" t="16722" r="12499" b="13524"/>
          <a:stretch/>
        </p:blipFill>
        <p:spPr>
          <a:xfrm>
            <a:off x="1812960" y="762120"/>
            <a:ext cx="4816440" cy="6019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7737480" y="644364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Figure 23–16a,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Respiratory Muscle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274" name="Picture 4" descr=""/>
          <p:cNvPicPr/>
          <p:nvPr/>
        </p:nvPicPr>
        <p:blipFill>
          <a:blip r:embed="rId1"/>
          <a:srcRect l="11382" t="25023" r="5994" b="16662"/>
          <a:stretch/>
        </p:blipFill>
        <p:spPr>
          <a:xfrm>
            <a:off x="304920" y="990720"/>
            <a:ext cx="8762760" cy="4779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Respiratory Muscle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7742160" y="6443640"/>
            <a:ext cx="134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Figure 23–16c,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4" descr=""/>
          <p:cNvPicPr/>
          <p:nvPr/>
        </p:nvPicPr>
        <p:blipFill>
          <a:blip r:embed="rId1"/>
          <a:srcRect l="2792" t="19471" r="2773" b="13889"/>
          <a:stretch/>
        </p:blipFill>
        <p:spPr>
          <a:xfrm>
            <a:off x="152280" y="1143000"/>
            <a:ext cx="8991720" cy="4903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3 Muscle Groups of </a:t>
            </a:r>
            <a:r>
              <a:rPr b="0" lang="en-US" sz="4000" spc="-1" strike="noStrike">
                <a:solidFill>
                  <a:srgbClr val="00cc99"/>
                </a:solidFill>
                <a:latin typeface="Impact"/>
              </a:rPr>
              <a:t>Inhalation</a:t>
            </a: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Diaphragm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action draws air into lun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5% of normal air mov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0" y="205740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External intracostal muscles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sist inha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% of normal air m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5"/>
          <p:cNvSpPr/>
          <p:nvPr/>
        </p:nvSpPr>
        <p:spPr>
          <a:xfrm>
            <a:off x="0" y="36576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Accessory muscl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ssist in elevating rib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nocleidomasto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rratus anter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ctoralis min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alene mus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7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Pleura and negative pressure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41911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neumothorax: lung collapse due to air entering in the pleural cav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328720" y="761760"/>
            <a:ext cx="3814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8" descr="19589"/>
          <p:cNvPicPr/>
          <p:nvPr/>
        </p:nvPicPr>
        <p:blipFill>
          <a:blip r:embed="rId1"/>
          <a:stretch/>
        </p:blipFill>
        <p:spPr>
          <a:xfrm>
            <a:off x="4724280" y="685800"/>
            <a:ext cx="3810240" cy="30481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0" descr="chest_tube"/>
          <p:cNvPicPr/>
          <p:nvPr/>
        </p:nvPicPr>
        <p:blipFill>
          <a:blip r:embed="rId2"/>
          <a:stretch/>
        </p:blipFill>
        <p:spPr>
          <a:xfrm>
            <a:off x="5334120" y="441972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380880" y="304920"/>
            <a:ext cx="86108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7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99"/>
                </a:solidFill>
                <a:latin typeface="Arial"/>
              </a:rPr>
              <a:t>Respiratory Disorders: Chronic Obstructive Pulmonary Disease (COPD)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3.40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5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6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7"/>
          <p:cNvSpPr/>
          <p:nvPr/>
        </p:nvSpPr>
        <p:spPr>
          <a:xfrm>
            <a:off x="380880" y="2355840"/>
            <a:ext cx="8245440" cy="37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eatures of these diseas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tients almost always have a history of smo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bored breathing (dyspnea) becomes progressively more seve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ughing and frequent pulmonary infections are comm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380880" y="304920"/>
            <a:ext cx="838224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Arial"/>
              </a:rPr>
              <a:t>Chronic Obstructive Pulmonary Disease (COPD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3.4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5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6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7"/>
          <p:cNvSpPr/>
          <p:nvPr/>
        </p:nvSpPr>
        <p:spPr>
          <a:xfrm>
            <a:off x="380880" y="2057400"/>
            <a:ext cx="824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8" descr=""/>
          <p:cNvPicPr/>
          <p:nvPr/>
        </p:nvPicPr>
        <p:blipFill>
          <a:blip r:embed="rId1"/>
          <a:srcRect l="0" t="0" r="0" b="2920"/>
          <a:stretch/>
        </p:blipFill>
        <p:spPr>
          <a:xfrm>
            <a:off x="1992240" y="1295280"/>
            <a:ext cx="4937040" cy="509904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9"/>
          <p:cNvSpPr/>
          <p:nvPr/>
        </p:nvSpPr>
        <p:spPr>
          <a:xfrm>
            <a:off x="6858000" y="61261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13.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Respiratory Trac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ists of a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conducting por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nasal cavit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terminal bronchio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ists of a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respiratory por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respiratory bronchiol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alveol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 Are air-filled pockets within the lun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re all gas exchange takes pl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Lung Cancer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3.4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6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7"/>
          <p:cNvSpPr/>
          <p:nvPr/>
        </p:nvSpPr>
        <p:spPr>
          <a:xfrm>
            <a:off x="380880" y="1527120"/>
            <a:ext cx="8245440" cy="45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ccounts for 1/3 of all cancer deaths in the United Stat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ncreased incidence associated with smok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ree common typ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quamous cell carcino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enocarcino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mall cell carcino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380880" y="304920"/>
            <a:ext cx="861084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Sudden Infant Death syndrome (SIDS)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3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3.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6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380880" y="2098800"/>
            <a:ext cx="824544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pparently healthy infant stops breathing and dies during sleep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ome cases are thought to be a problem of the neural respiratory control cent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ne third of cases appear to be due to heart rhythm abnormaliti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Asthma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3.4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6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7"/>
          <p:cNvSpPr/>
          <p:nvPr/>
        </p:nvSpPr>
        <p:spPr>
          <a:xfrm>
            <a:off x="380880" y="2590920"/>
            <a:ext cx="82454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hronic inflamed hypersensitive bronchiole passag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sponse to irritants with dyspnea, coughing, and wheez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Asthma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3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3.4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6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7"/>
          <p:cNvSpPr/>
          <p:nvPr/>
        </p:nvSpPr>
        <p:spPr>
          <a:xfrm>
            <a:off x="380880" y="2590920"/>
            <a:ext cx="82454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hronic inflamed hypersensitive bronchiole passag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sponse to irritants with dyspnea, coughing, and wheez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380880" y="304920"/>
            <a:ext cx="838224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Developmental Aspects of the Respiratory System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3.47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6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7"/>
          <p:cNvSpPr/>
          <p:nvPr/>
        </p:nvSpPr>
        <p:spPr>
          <a:xfrm>
            <a:off x="380880" y="2558880"/>
            <a:ext cx="8245440" cy="23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mportant birth defec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ystic fibrosis – oversecretion of thick mucus clogs the respiratory sys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eft pal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2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Aging Effect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3.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6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380880" y="1843200"/>
            <a:ext cx="8245440" cy="39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lasticity of lungs decreas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Vital capacity decreas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lood oxygen levels decreas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timulating effects of carbon dioxide decreas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ore risks of respiratory tract infe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380880" y="304920"/>
            <a:ext cx="838224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Respiratory Rate Changes Throughout Lif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3.4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6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7"/>
          <p:cNvSpPr/>
          <p:nvPr/>
        </p:nvSpPr>
        <p:spPr>
          <a:xfrm>
            <a:off x="380880" y="1828800"/>
            <a:ext cx="8245440" cy="44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ewborns – 40 to 80 respirations per minu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nfants – 30 respirations per minu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ge 5 – 25 respirations per minu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dults – 12 to 18 respirations per minu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ate often increases somewhat with old ag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52280" y="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mage of the Respirator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3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7696080" y="64771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3.3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0" y="6094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0" y="1066680"/>
            <a:ext cx="9144000" cy="763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-95760"/>
            <a:ext cx="876312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Figure 23.3  The Nose, Nasal Cavity, and Pharynx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12" name="Picture 6" descr=""/>
          <p:cNvPicPr/>
          <p:nvPr/>
        </p:nvPicPr>
        <p:blipFill>
          <a:blip r:embed="rId1"/>
          <a:srcRect l="0" t="0" r="0" b="4002"/>
          <a:stretch/>
        </p:blipFill>
        <p:spPr>
          <a:xfrm>
            <a:off x="1600200" y="1176480"/>
            <a:ext cx="5867280" cy="5364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1T20:51:24Z</dcterms:created>
  <dc:creator>NOkazaki</dc:creator>
  <dc:description/>
  <dc:language>en-US</dc:language>
  <cp:lastModifiedBy>Andrew S. Hansell</cp:lastModifiedBy>
  <dcterms:modified xsi:type="dcterms:W3CDTF">2015-02-11T13:20:21Z</dcterms:modified>
  <cp:revision>58</cp:revision>
  <dc:subject/>
  <dc:title>The Respiratory system</dc:title>
</cp:coreProperties>
</file>